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4C82-CA3B-4B11-8D13-60803E93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B1F-BE2D-4015-8558-E6328426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A985-FF20-4553-9037-546D74FFC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8974-7166-40C7-898D-37BB6FAFA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0F5A-97D4-4E13-9FBC-EC42F7CCB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2D1-6E90-4DFE-8BCD-B866FBB0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08E-D682-409F-912E-52BE93F1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614-3445-466A-93D0-82A71BD2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BA78-1BFA-44EA-B0E4-63DD3115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D1A6-D841-46F5-90B6-2B72378F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3B73-0F10-4FA0-BA82-C1044D1BA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7A52-397B-4025-9573-F25CD452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Z:\JAVNA UPRAVA 2010\Si CGP\CGP_prirocnik_WEB\OUT\05 Medijsko promocijski elementi\11 PPT predstavitev\untitled folder\ozadje-0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Box 7"/>
          <p:cNvSpPr/>
          <p:nvPr/>
        </p:nvSpPr>
        <p:spPr>
          <a:xfrm>
            <a:off x="961920" y="708120"/>
            <a:ext cx="12049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</a:rPr>
              <a:t>MINISTRSTVO ZA </a:t>
            </a: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FINANCE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700" spc="-1" strike="noStrike">
                <a:solidFill>
                  <a:srgbClr val="000000"/>
                </a:solidFill>
                <a:latin typeface="Republika"/>
              </a:rPr>
              <a:t>URAD REPUBLIKE SLOVENIJE ZA NADZOR PRORAČUN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" name="Picture 8" descr="grb moder za 10 pt.wmf"/>
          <p:cNvPicPr/>
          <p:nvPr/>
        </p:nvPicPr>
        <p:blipFill>
          <a:blip r:embed="rId3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ababa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AD77D-468D-493A-9E40-5A386D531E4B}" type="datetime">
              <a:rPr b="0" lang="en-US" sz="1200" spc="-1" strike="noStrike">
                <a:solidFill>
                  <a:srgbClr val="bababa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31672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7186-BD1B-4C13-8B87-A81F10012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78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alibri"/>
              </a:rPr>
              <a:t>Poročilo revizijskega organa</a:t>
            </a:r>
            <a:endParaRPr b="0" lang="en-US" sz="4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3908520"/>
            <a:ext cx="64008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8. seja nadzornega odbora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ČV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jubljana, 28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14</a:t>
            </a: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999999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ateja Vetrih</a:t>
            </a:r>
            <a:endParaRPr b="0" lang="en-US" sz="1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3E27E-05E0-4E1D-AD2B-2E7A3D47AC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E9CC5-E5A9-4FF9-9E4A-5B91226EAFAC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1773360"/>
          <a:ext cx="8229600" cy="4176360"/>
        </p:xfrm>
        <a:graphic>
          <a:graphicData uri="http://schemas.openxmlformats.org/drawingml/2006/table">
            <a:tbl>
              <a:tblPr/>
              <a:tblGrid>
                <a:gridCol w="2027160"/>
                <a:gridCol w="2951280"/>
                <a:gridCol w="3251160"/>
              </a:tblGrid>
              <a:tr h="111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erativni program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Število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ERACIJ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 ki so imele v letu 2012 certificirane izdat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ertificirana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VREDNOST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operacij v letu 2012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R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9.766.899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OP RČV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.528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44.950.040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P ROPI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4.886.533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11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aj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.087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69.603.472</a:t>
                      </a:r>
                      <a:endParaRPr b="0" lang="en-US" sz="2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75" name="Rectangle 100"/>
          <p:cNvSpPr/>
          <p:nvPr/>
        </p:nvSpPr>
        <p:spPr>
          <a:xfrm>
            <a:off x="2556000" y="549360"/>
            <a:ext cx="6130800" cy="8683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EF20B-A167-4E0A-BCB1-4D9A6ECC91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D5448-59A8-4858-9515-C0265F627A9A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2195640" y="620640"/>
            <a:ext cx="655308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457200" y="1600200"/>
            <a:ext cx="8291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V statisti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i (MUS) vzorec izbranih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73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operacij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45 operacij OP RR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16 operacij OP RČV</a:t>
            </a:r>
            <a:r>
              <a:rPr b="0" lang="en-US" sz="32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12 operacije OP ROPI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Revidiran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  <a:ea typeface="Arial"/>
              </a:rPr>
              <a:t>vrednos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skupaj: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105.636.349 €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6888-B65E-4E01-ACB0-6DCB105E09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2340000" y="692280"/>
            <a:ext cx="6346800" cy="7254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2" name="Content Placeholder 20"/>
          <p:cNvSpPr/>
          <p:nvPr/>
        </p:nvSpPr>
        <p:spPr>
          <a:xfrm>
            <a:off x="611280" y="1628640"/>
            <a:ext cx="8123040" cy="46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96840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NAPA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naključ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(slučajne)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sistematičn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ben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jemne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pake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¾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R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¼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 OP ROPI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zanemarljiv delež napak na OP RČV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96840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(previsoki izdatki za plače, nepravilni izračuni stroška dela)</a:t>
            </a:r>
            <a:endParaRPr b="0" lang="en-US" sz="2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1B9B-B5C2-4474-A42C-9707A2ADF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755640" y="2924280"/>
          <a:ext cx="7858080" cy="2376360"/>
        </p:xfrm>
        <a:graphic>
          <a:graphicData uri="http://schemas.openxmlformats.org/drawingml/2006/table">
            <a:tbl>
              <a:tblPr/>
              <a:tblGrid>
                <a:gridCol w="1306080"/>
                <a:gridCol w="1815840"/>
                <a:gridCol w="1802160"/>
                <a:gridCol w="1442160"/>
                <a:gridCol w="1491840"/>
              </a:tblGrid>
              <a:tr h="85716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tevilo revidiranih operacij</a:t>
                      </a:r>
                      <a:endParaRPr b="0" lang="en-US" sz="18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dirana vrednost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rednost napake (€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napake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76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481.8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38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944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OP RČV *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649.570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19.39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2,99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014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ROPI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50.957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306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58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660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Skupaj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8.482.414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79.089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Calibri"/>
                        </a:rPr>
                        <a:t>0,93%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6" name="Rectangle 3"/>
          <p:cNvSpPr/>
          <p:nvPr/>
        </p:nvSpPr>
        <p:spPr>
          <a:xfrm>
            <a:off x="611280" y="1600200"/>
            <a:ext cx="7993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39760"/>
                <a:tab algn="l" pos="47952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Revizije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dodatnih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2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Calibri"/>
              </a:rPr>
              <a:t>operacij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631800" indent="-452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19280"/>
                <a:tab algn="l" pos="958680"/>
                <a:tab algn="l" pos="1198440"/>
                <a:tab algn="l" pos="1438200"/>
                <a:tab algn="l" pos="1677960"/>
                <a:tab algn="l" pos="1917720"/>
                <a:tab algn="l" pos="2157480"/>
                <a:tab algn="l" pos="2397240"/>
                <a:tab algn="l" pos="2637000"/>
                <a:tab algn="l" pos="2876400"/>
                <a:tab algn="l" pos="3116160"/>
                <a:tab algn="l" pos="3355920"/>
                <a:tab algn="l" pos="3595680"/>
                <a:tab algn="l" pos="3835440"/>
                <a:tab algn="l" pos="4075200"/>
                <a:tab algn="l" pos="4314960"/>
                <a:tab algn="l" pos="4554360"/>
                <a:tab algn="l" pos="4794120"/>
                <a:tab algn="l" pos="5033880"/>
                <a:tab algn="l" pos="527364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dopolnil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, izvedel zunanji izvajalec –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KPMG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55371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* ugotovljena nepravilnost pri mladem raziskovalcu, ki je uveljavljal neupravičene stroške izobraževanja in tudi ni doktoriral v roku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7707-10E5-4834-A029-282B5FCDF7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Stopnj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napake 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jbolj verjetn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,80%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jemljiva napaka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,00%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Vrednost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napak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a Cilj 1: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16000" y="4781520"/>
          <a:ext cx="6985080" cy="1095480"/>
        </p:xfrm>
        <a:graphic>
          <a:graphicData uri="http://schemas.openxmlformats.org/drawingml/2006/table">
            <a:tbl>
              <a:tblPr/>
              <a:tblGrid>
                <a:gridCol w="4105440"/>
                <a:gridCol w="2879640"/>
              </a:tblGrid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kupna projicirana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(najbolj verjetna napaka)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8.726.157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rejemljiva (dopustna) napaka 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92.069 EUR</a:t>
                      </a:r>
                      <a:endParaRPr b="0" lang="en-US" sz="2000" spc="-1" strike="noStrike">
                        <a:solidFill>
                          <a:srgbClr val="9999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Rectangle 2"/>
          <p:cNvSpPr/>
          <p:nvPr/>
        </p:nvSpPr>
        <p:spPr>
          <a:xfrm>
            <a:off x="2268360" y="404640"/>
            <a:ext cx="640728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F64A-4680-4BAB-B575-980AEA8865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55BB-2A2F-4B8B-917E-FB7891192B7F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268360" y="18900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č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395280" y="1773360"/>
            <a:ext cx="87487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 u="sng">
                <a:solidFill>
                  <a:srgbClr val="000000"/>
                </a:solidFill>
                <a:uFillTx/>
                <a:latin typeface="Calibri"/>
              </a:rPr>
              <a:t>Korektivni ukrepi OU in PO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5 % finančna korekcija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na PU “turizem”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2.774.693 €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 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samokorekcija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nad 2 % dopustne napake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(PO 30.12.2013 decertificiral</a:t>
            </a:r>
            <a:r>
              <a:rPr b="1" lang="sl-SI" sz="3200" spc="-1" strike="noStrike">
                <a:solidFill>
                  <a:srgbClr val="0000ff"/>
                </a:solidFill>
                <a:latin typeface="Calibri"/>
              </a:rPr>
              <a:t> 3.700.000 € </a:t>
            </a:r>
            <a:r>
              <a:rPr b="1" lang="sl-SI" sz="3200" spc="-1" strike="noStrike">
                <a:solidFill>
                  <a:srgbClr val="000000"/>
                </a:solidFill>
                <a:latin typeface="Calibri"/>
              </a:rPr>
              <a:t>za OP RR)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 flipV="1" rot="10800000">
            <a:off x="249120" y="5012280"/>
            <a:ext cx="8894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Calibri"/>
              </a:rPr>
              <a:t>NAJBOLJ VERJETNA NAPAKA &lt; DOPUSTNA NAPA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MNENJE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BREZ PRIDRŽKA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623B8-B140-4835-AFE6-6C91C92A8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FA38-7FD9-4D23-96DD-6FD6E3AA898B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9F29C-29B7-4EE1-920C-7E86CF3B94D9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268360" y="260280"/>
            <a:ext cx="6407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no poročilo o nadzor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mnenje</a:t>
            </a: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68360" y="260280"/>
            <a:ext cx="640728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tno poro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č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ilo o nadzoru</a:t>
            </a:r>
            <a:br>
              <a:rPr sz="3600"/>
            </a:b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 in mnenje</a:t>
            </a:r>
            <a:endParaRPr b="0" lang="en-US" sz="36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468360" y="1844640"/>
            <a:ext cx="82803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Korespondenca RO z EK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 LPN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oslano EK: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31.12.2013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Calibri"/>
              </a:rPr>
              <a:t>Postopek ustavitve plačil za OP RR in OP ROPI: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6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/DG EMPL obravnava OP RČV posebej in ne zahteva zaustavitve plačil/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Ocena EK o sprejemljivosti LPN: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10.3.2014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C032D-BE96-48B2-8EEA-DF9ED9BD4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95280" y="765000"/>
            <a:ext cx="6491160" cy="5810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Aktualno v l. 2014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Revizije operacij za izdatke, certificirane leta 2013 - v izvajanju revizije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74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, od tega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39 OP RR , </a:t>
            </a:r>
            <a:r>
              <a:rPr b="1" lang="sl-SI" sz="2400" spc="-1" strike="noStrike">
                <a:solidFill>
                  <a:srgbClr val="0000ff"/>
                </a:solidFill>
                <a:latin typeface="Calibri"/>
              </a:rPr>
              <a:t>16 OP RČV</a:t>
            </a:r>
            <a:r>
              <a:rPr b="0" lang="sl-SI" sz="2400" spc="-1" strike="noStrike">
                <a:solidFill>
                  <a:srgbClr val="999999"/>
                </a:solidFill>
                <a:latin typeface="Calibri"/>
              </a:rPr>
              <a:t> in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19 OP ROPI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Dodatn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vzorec revizij </a:t>
            </a:r>
            <a:r>
              <a:rPr b="1" lang="sl-SI" sz="2800" spc="-1" strike="noStrike">
                <a:solidFill>
                  <a:srgbClr val="0000ff"/>
                </a:solidFill>
                <a:latin typeface="Calibri"/>
              </a:rPr>
              <a:t>25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peracij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tsourcing)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62120" indent="-220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apovedane so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3</a:t>
            </a:r>
            <a:r>
              <a:rPr b="0" lang="sl-SI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sl-SI" sz="2800" spc="-1" strike="noStrike" u="sng">
                <a:solidFill>
                  <a:srgbClr val="0000ff"/>
                </a:solidFill>
                <a:uFillTx/>
                <a:latin typeface="Calibri"/>
              </a:rPr>
              <a:t>revizije EK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(DG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gio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) v Sloveniji: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junij: OP RR (izbor operacij in upravičenost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september: OP ROPI (javna naročila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oktober: PO, OU (izterjave nepravilnosti)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22CC0-77DF-43FF-A315-EDFB727778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4000" spc="-1" strike="noStrike">
                <a:solidFill>
                  <a:srgbClr val="0000ff"/>
                </a:solidFill>
                <a:latin typeface="Calibri"/>
              </a:rPr>
              <a:t>Hvala za pozornost</a:t>
            </a:r>
            <a:r>
              <a:rPr b="1" lang="sl-SI" sz="3600" spc="-1" strike="noStrike">
                <a:solidFill>
                  <a:srgbClr val="0000ff"/>
                </a:solidFill>
                <a:latin typeface="Calibri"/>
              </a:rPr>
              <a:t>!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Urad RS za nadzor proračuna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Calibri"/>
              </a:rPr>
              <a:t>Revizijski organ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Fajfarjeva 33,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1502 Ljubljana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sl-SI" sz="1600" spc="-1" strike="noStrike">
                <a:solidFill>
                  <a:srgbClr val="0000ff"/>
                </a:solidFill>
                <a:latin typeface="Arial"/>
              </a:rPr>
              <a:t>Mateja Vetrih</a:t>
            </a: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, Sektor za revizijo evropskih strukturnih skladov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T: 01 369 69 39 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Calibri"/>
              </a:rPr>
              <a:t>www.unp.gov.si</a:t>
            </a:r>
            <a:endParaRPr b="0" lang="en-US" sz="1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DB34-11BB-43C2-90CC-12FA2201EB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11280" y="764640"/>
            <a:ext cx="6212160" cy="55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Naloge revizijskega organ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sistema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vizije operacij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Letno poročilo o nadzoru in mnenje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3821F-7CDE-40EC-9C28-20150C7345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116000" y="1484280"/>
            <a:ext cx="7416720" cy="482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zvedene revizije sistema d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ja 2014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SVLR (jul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za potrjevanje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VZT (nov. 2009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ŠŠ (mar. 2010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G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DDSZ (apr. 2011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gana upravljanja – MGRT (feb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T MIZKŠ (apr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600" spc="-1" strike="noStrike">
                <a:solidFill>
                  <a:srgbClr val="0000ff"/>
                </a:solidFill>
                <a:latin typeface="Calibri"/>
              </a:rPr>
              <a:t>MNZ </a:t>
            </a:r>
            <a:r>
              <a:rPr b="0" lang="en-US" sz="2600" spc="-1" strike="noStrike">
                <a:solidFill>
                  <a:srgbClr val="0000ff"/>
                </a:solidFill>
                <a:latin typeface="Calibri"/>
              </a:rPr>
              <a:t>(dec. 2013)</a:t>
            </a:r>
            <a:endParaRPr b="0" lang="en-US" sz="26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0915-ECE7-4AE4-906D-54A68CA6A7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28840" y="706320"/>
            <a:ext cx="627552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zvedene 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Calibri"/>
              </a:rPr>
              <a:t>naknadn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vizije sistema in pregledi izpolnjevanja priporočil do maja 2014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U (mar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VZT (mar. 2010, sept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 (jul. 2010, feb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ŠŠ (jan. 2012, jan. 2013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G (dec. 2011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T MDDSZ (dec. 2011, dec. 2012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OU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 MGRT 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T </a:t>
            </a:r>
            <a:r>
              <a:rPr b="1" lang="en-US" sz="2400" spc="-1" strike="noStrike">
                <a:solidFill>
                  <a:srgbClr val="0000ff"/>
                </a:solidFill>
                <a:latin typeface="Calibri"/>
              </a:rPr>
              <a:t>MIZKŠ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(jan. 2014)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8D51-ECD3-48E2-832E-6E68625DE6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40000" y="634680"/>
            <a:ext cx="634680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8218440" cy="43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kupaj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izdanih PRIPOROČI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z revizij: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50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E </a:t>
            </a:r>
            <a:r>
              <a:rPr b="0" lang="en-US" sz="3200" spc="-1" strike="noStrike">
                <a:solidFill>
                  <a:srgbClr val="0000ff"/>
                </a:solidFill>
                <a:latin typeface="Calibri"/>
              </a:rPr>
              <a:t>ODPR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PRIPOROČILA (za OP RČV):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999999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 upravljanja (OU)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T MIZKŠ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T MNZ :                                            2</a:t>
            </a: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6BE916-49A6-4CEC-9CAC-EC1C9BAD34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114640" y="380880"/>
            <a:ext cx="6675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000" spc="-1" strike="noStrike">
                <a:solidFill>
                  <a:srgbClr val="0000ff"/>
                </a:solidFill>
                <a:latin typeface="Calibri"/>
              </a:rPr>
              <a:t>pred spremembo</a:t>
            </a:r>
            <a:r>
              <a:rPr b="0" lang="en-US" sz="4400" spc="-1" strike="noStrike">
                <a:solidFill>
                  <a:srgbClr val="99999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25440" y="1417680"/>
            <a:ext cx="836136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D3403-B40C-430C-8473-16DCBF8595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13120" y="274320"/>
            <a:ext cx="6673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REVIZIJE SISTEMOV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 – </a:t>
            </a:r>
            <a:r>
              <a:rPr b="0" lang="en-US" sz="2400" spc="-1" strike="noStrike">
                <a:solidFill>
                  <a:srgbClr val="0000ff"/>
                </a:solidFill>
                <a:latin typeface="Calibri"/>
              </a:rPr>
              <a:t>po spremembi</a:t>
            </a:r>
            <a:endParaRPr b="0" lang="en-US" sz="24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93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88C53-90E8-430A-8EE2-90BF808624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BFC9-91D7-4F03-BA8F-EBC3DBC1741D}" type="slidenum">
              <a:rPr b="0" lang="en-US" sz="1200" spc="-1" strike="noStrike">
                <a:solidFill>
                  <a:srgbClr val="babab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2268360" y="692280"/>
            <a:ext cx="6347160" cy="63324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Revizije sistema OP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RČV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atika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talnih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sprememb sistem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RO je pripravil novo analizo tveganj za vsa PT</a:t>
            </a:r>
            <a:endParaRPr b="0" lang="en-US" sz="28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O je zopet pripravil novo revizijsko strategijo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a začetku leta 2014 dokumenta poslana na EK) </a:t>
            </a:r>
            <a:r>
              <a:rPr b="0" lang="en-US" sz="2400" spc="-1" strike="noStrike">
                <a:solidFill>
                  <a:srgbClr val="9999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8317080" y="6356520"/>
            <a:ext cx="369720" cy="3650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323A-4010-4FF8-834E-5C01944D9D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40000" y="764640"/>
            <a:ext cx="6346800" cy="65268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Revizije operacij v l. 2013</a:t>
            </a:r>
            <a:endParaRPr b="0" lang="en-US" sz="4000" spc="-1" strike="noStrike">
              <a:solidFill>
                <a:srgbClr val="999999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99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OSNOVE: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zdatki, potrjeni v koledarskem letu 201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kupna ocena sistema - kategorij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atistično vzorčenje - MUS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 vzorec za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vse tri OP</a:t>
            </a: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999999"/>
              </a:solidFill>
              <a:latin typeface="Calibri"/>
            </a:endParaRPr>
          </a:p>
        </p:txBody>
      </p: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5T07:29:29Z</dcterms:created>
  <dc:creator>Roman Rojko</dc:creator>
  <dc:description/>
  <dc:language>en-US</dc:language>
  <cp:lastModifiedBy>Jure Mekinc</cp:lastModifiedBy>
  <dcterms:modified xsi:type="dcterms:W3CDTF">2014-05-27T08:13:08Z</dcterms:modified>
  <cp:revision>73</cp:revision>
  <dc:subject/>
  <dc:title>Slide 1</dc:title>
</cp:coreProperties>
</file>